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7.wmf" ContentType="image/x-wmf"/>
  <Override PartName="/ppt/media/image16.png" ContentType="image/png"/>
  <Override PartName="/ppt/media/image26.wmf" ContentType="image/x-wmf"/>
  <Override PartName="/ppt/media/image23.wmf" ContentType="image/x-wmf"/>
  <Override PartName="/ppt/media/image22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C58-FBB2-4220-A32B-7F6F7E78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F42-6ED5-4A10-8C9E-CD7CCAA4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396-419C-4E7B-92CF-0ADF994D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EE1-ECEA-49B4-802F-38C56D87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4FD-6EAD-4DCA-B685-B2D2D5EE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E5E-B0C9-44E2-8F32-D4B24D34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7B2-74D2-44F3-9F3B-555BE1E2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5B3-A816-4953-8E76-F6B19275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AAD-54D6-429A-A7CB-40328559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E92-C148-4D3F-ACD0-D0801EFE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8FC-5FDF-4C77-896E-B2C19E31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AF4-516A-41AA-81B7-90C9D98B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20B3-A068-4AA6-8A67-E6641195F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791320"/>
            <a:ext cx="1295280" cy="9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4.xml"/><Relationship Id="rId7" Type="http://schemas.openxmlformats.org/officeDocument/2006/relationships/slide" Target="slide25.xml"/><Relationship Id="rId8" Type="http://schemas.openxmlformats.org/officeDocument/2006/relationships/slide" Target="slide1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image" Target="../media/image3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metry &amp; Measurement Review Game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58"/>
          <p:cNvSpPr/>
          <p:nvPr/>
        </p:nvSpPr>
        <p:spPr>
          <a:xfrm>
            <a:off x="731520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9"/>
          <p:cNvSpPr/>
          <p:nvPr/>
        </p:nvSpPr>
        <p:spPr>
          <a:xfrm>
            <a:off x="731520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3"/>
          <p:cNvSpPr/>
          <p:nvPr/>
        </p:nvSpPr>
        <p:spPr>
          <a:xfrm>
            <a:off x="556272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4"/>
          <p:cNvSpPr/>
          <p:nvPr/>
        </p:nvSpPr>
        <p:spPr>
          <a:xfrm>
            <a:off x="556272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60"/>
          <p:cNvSpPr/>
          <p:nvPr/>
        </p:nvSpPr>
        <p:spPr>
          <a:xfrm>
            <a:off x="731520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61"/>
          <p:cNvSpPr/>
          <p:nvPr/>
        </p:nvSpPr>
        <p:spPr>
          <a:xfrm>
            <a:off x="731520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62"/>
          <p:cNvSpPr/>
          <p:nvPr/>
        </p:nvSpPr>
        <p:spPr>
          <a:xfrm>
            <a:off x="731520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5"/>
          <p:cNvSpPr/>
          <p:nvPr/>
        </p:nvSpPr>
        <p:spPr>
          <a:xfrm>
            <a:off x="556272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6"/>
          <p:cNvSpPr/>
          <p:nvPr/>
        </p:nvSpPr>
        <p:spPr>
          <a:xfrm>
            <a:off x="556272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7"/>
          <p:cNvSpPr/>
          <p:nvPr/>
        </p:nvSpPr>
        <p:spPr>
          <a:xfrm>
            <a:off x="556272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3"/>
          <p:cNvSpPr/>
          <p:nvPr/>
        </p:nvSpPr>
        <p:spPr>
          <a:xfrm>
            <a:off x="3809880" y="1676520"/>
            <a:ext cx="1524240" cy="76176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10" h="21600">
                <a:moveTo>
                  <a:pt x="0" y="0"/>
                </a:moveTo>
                <a:lnTo>
                  <a:pt x="43210" y="0"/>
                </a:lnTo>
                <a:lnTo>
                  <a:pt x="43210" y="21600"/>
                </a:lnTo>
                <a:lnTo>
                  <a:pt x="0" y="21600"/>
                </a:lnTo>
                <a:close/>
              </a:path>
              <a:path fill="lightenLess" w="43210" h="21600">
                <a:moveTo>
                  <a:pt x="0" y="0"/>
                </a:moveTo>
                <a:lnTo>
                  <a:pt x="43210" y="0"/>
                </a:lnTo>
                <a:lnTo>
                  <a:pt x="41810" y="1400"/>
                </a:lnTo>
                <a:lnTo>
                  <a:pt x="1400" y="1400"/>
                </a:lnTo>
                <a:close/>
              </a:path>
              <a:path fill="darken" w="43210" h="21600">
                <a:moveTo>
                  <a:pt x="43210" y="0"/>
                </a:moveTo>
                <a:lnTo>
                  <a:pt x="43210" y="21600"/>
                </a:lnTo>
                <a:lnTo>
                  <a:pt x="41810" y="20200"/>
                </a:lnTo>
                <a:lnTo>
                  <a:pt x="41810" y="1400"/>
                </a:lnTo>
                <a:close/>
              </a:path>
              <a:path fill="darkenLess" w="43210" h="21600">
                <a:moveTo>
                  <a:pt x="43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0" y="20200"/>
                </a:lnTo>
                <a:close/>
              </a:path>
              <a:path fill="lighten" w="43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4"/>
          <p:cNvSpPr/>
          <p:nvPr/>
        </p:nvSpPr>
        <p:spPr>
          <a:xfrm>
            <a:off x="3809880" y="26668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5"/>
          <p:cNvSpPr/>
          <p:nvPr/>
        </p:nvSpPr>
        <p:spPr>
          <a:xfrm>
            <a:off x="3809880" y="3657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6"/>
          <p:cNvSpPr/>
          <p:nvPr/>
        </p:nvSpPr>
        <p:spPr>
          <a:xfrm>
            <a:off x="3809880" y="4648320"/>
            <a:ext cx="1524240" cy="76176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10" h="21600">
                <a:moveTo>
                  <a:pt x="0" y="0"/>
                </a:moveTo>
                <a:lnTo>
                  <a:pt x="43210" y="0"/>
                </a:lnTo>
                <a:lnTo>
                  <a:pt x="43210" y="21600"/>
                </a:lnTo>
                <a:lnTo>
                  <a:pt x="0" y="21600"/>
                </a:lnTo>
                <a:close/>
              </a:path>
              <a:path fill="lightenLess" w="43210" h="21600">
                <a:moveTo>
                  <a:pt x="0" y="0"/>
                </a:moveTo>
                <a:lnTo>
                  <a:pt x="43210" y="0"/>
                </a:lnTo>
                <a:lnTo>
                  <a:pt x="41810" y="1400"/>
                </a:lnTo>
                <a:lnTo>
                  <a:pt x="1400" y="1400"/>
                </a:lnTo>
                <a:close/>
              </a:path>
              <a:path fill="darken" w="43210" h="21600">
                <a:moveTo>
                  <a:pt x="43210" y="0"/>
                </a:moveTo>
                <a:lnTo>
                  <a:pt x="43210" y="21600"/>
                </a:lnTo>
                <a:lnTo>
                  <a:pt x="41810" y="20200"/>
                </a:lnTo>
                <a:lnTo>
                  <a:pt x="41810" y="1400"/>
                </a:lnTo>
                <a:close/>
              </a:path>
              <a:path fill="darkenLess" w="43210" h="21600">
                <a:moveTo>
                  <a:pt x="43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0" y="20200"/>
                </a:lnTo>
                <a:close/>
              </a:path>
              <a:path fill="lighten" w="43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7"/>
          <p:cNvSpPr/>
          <p:nvPr/>
        </p:nvSpPr>
        <p:spPr>
          <a:xfrm>
            <a:off x="3809880" y="56386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30492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0492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30492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0492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0492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205740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205740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205740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205740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205740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762120"/>
          <a:ext cx="8686800" cy="82224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812960"/>
                <a:gridCol w="1752480"/>
                <a:gridCol w="16765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meter and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rea and 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Complex Sha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agorean Theorem and Tria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cellane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volume of the cylind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=(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628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65760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volume of the rectangular Pr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2 in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810240" cy="36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88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3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762360" cy="3176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4"/>
          <p:cNvSpPr/>
          <p:nvPr/>
        </p:nvSpPr>
        <p:spPr>
          <a:xfrm>
            <a:off x="3657600" y="2209680"/>
            <a:ext cx="6094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19360" y="22860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72 ft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388620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002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3 yd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3 yd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53520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1640" y="22860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1 c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3" descr=""/>
          <p:cNvPicPr/>
          <p:nvPr/>
        </p:nvPicPr>
        <p:blipFill>
          <a:blip r:embed="rId2"/>
          <a:stretch/>
        </p:blipFill>
        <p:spPr>
          <a:xfrm>
            <a:off x="228600" y="2128680"/>
            <a:ext cx="4343400" cy="42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19360" y="18288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ich angle is congruent to    CAB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F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4" descr="MPj03901240000[1]"/>
          <p:cNvPicPr/>
          <p:nvPr/>
        </p:nvPicPr>
        <p:blipFill>
          <a:blip r:embed="rId2"/>
          <a:stretch/>
        </p:blipFill>
        <p:spPr>
          <a:xfrm>
            <a:off x="1066680" y="4800600"/>
            <a:ext cx="2590920" cy="184932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7"/>
          <p:cNvGrpSpPr/>
          <p:nvPr/>
        </p:nvGrpSpPr>
        <p:grpSpPr>
          <a:xfrm>
            <a:off x="5410080" y="3429000"/>
            <a:ext cx="457200" cy="457200"/>
            <a:chOff x="5410080" y="3429000"/>
            <a:chExt cx="457200" cy="457200"/>
          </a:xfrm>
        </p:grpSpPr>
        <p:sp>
          <p:nvSpPr>
            <p:cNvPr id="157" name="Line 15"/>
            <p:cNvSpPr/>
            <p:nvPr/>
          </p:nvSpPr>
          <p:spPr>
            <a:xfrm>
              <a:off x="5410080" y="38862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 flipV="1">
              <a:off x="5410080" y="342900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AutoShape 18"/>
          <p:cNvSpPr/>
          <p:nvPr/>
        </p:nvSpPr>
        <p:spPr>
          <a:xfrm>
            <a:off x="533520" y="1981080"/>
            <a:ext cx="1600200" cy="205740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9"/>
          <p:cNvSpPr/>
          <p:nvPr/>
        </p:nvSpPr>
        <p:spPr>
          <a:xfrm>
            <a:off x="2743200" y="2133720"/>
            <a:ext cx="1143000" cy="152388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28600" y="1752480"/>
            <a:ext cx="2514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362320" y="1828800"/>
            <a:ext cx="2057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e triangle as scalene, isosceles, and equilatera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isosce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5" descr="MPj03901240000[1]"/>
          <p:cNvPicPr/>
          <p:nvPr/>
        </p:nvPicPr>
        <p:blipFill>
          <a:blip r:embed="rId2"/>
          <a:stretch/>
        </p:blipFill>
        <p:spPr>
          <a:xfrm>
            <a:off x="533520" y="4962600"/>
            <a:ext cx="2361960" cy="16858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6"/>
          <p:cNvSpPr/>
          <p:nvPr/>
        </p:nvSpPr>
        <p:spPr>
          <a:xfrm>
            <a:off x="1219320" y="2133720"/>
            <a:ext cx="1981080" cy="2209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1600200" y="30481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2514600" y="29714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s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13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2730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90760" y="2133720"/>
            <a:ext cx="46479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perimeter and area of the rect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267080" y="548640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= 32 cm, A = 48 cm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0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1"/>
          <p:cNvSpPr/>
          <p:nvPr/>
        </p:nvSpPr>
        <p:spPr>
          <a:xfrm>
            <a:off x="4648320" y="3429000"/>
            <a:ext cx="3581280" cy="1447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s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1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5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11480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14"/>
          <p:cNvGraphicFramePr/>
          <p:nvPr/>
        </p:nvGraphicFramePr>
        <p:xfrm>
          <a:off x="5438880" y="1981080"/>
          <a:ext cx="1238040" cy="19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8880" y="1981080"/>
                    <a:ext cx="123804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80060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4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1" descr=""/>
          <p:cNvPicPr/>
          <p:nvPr/>
        </p:nvPicPr>
        <p:blipFill>
          <a:blip r:embed="rId4"/>
          <a:stretch/>
        </p:blipFill>
        <p:spPr>
          <a:xfrm>
            <a:off x="457200" y="2057400"/>
            <a:ext cx="3962520" cy="36212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2"/>
          <p:cNvSpPr/>
          <p:nvPr/>
        </p:nvSpPr>
        <p:spPr>
          <a:xfrm>
            <a:off x="4419720" y="2133720"/>
            <a:ext cx="456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1936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=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 is traveling at 70 mi/h for 3 hours. How many miles did the car travel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210 mi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4" descr="MCj02339660000[1]"/>
          <p:cNvPicPr/>
          <p:nvPr/>
        </p:nvPicPr>
        <p:blipFill>
          <a:blip r:embed="rId2"/>
          <a:stretch/>
        </p:blipFill>
        <p:spPr>
          <a:xfrm>
            <a:off x="228600" y="2514600"/>
            <a:ext cx="4114800" cy="33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cale model of a car is 10 inches long. The scale factor is 1:18. How many feet long is the actual c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180 fe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4" descr="MPj04331920000[1]"/>
          <p:cNvPicPr/>
          <p:nvPr/>
        </p:nvPicPr>
        <p:blipFill>
          <a:blip r:embed="rId2"/>
          <a:stretch/>
        </p:blipFill>
        <p:spPr>
          <a:xfrm>
            <a:off x="304920" y="3124080"/>
            <a:ext cx="3352680" cy="26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millimeters (mm) are in 20 centimeters (cm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200 m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5" descr="MPj03995460000[1]"/>
          <p:cNvPicPr/>
          <p:nvPr/>
        </p:nvPicPr>
        <p:blipFill>
          <a:blip r:embed="rId2"/>
          <a:stretch/>
        </p:blipFill>
        <p:spPr>
          <a:xfrm>
            <a:off x="838080" y="2362320"/>
            <a:ext cx="2505240" cy="31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11480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. 24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7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7086600" cy="38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9520" y="1904760"/>
            <a:ext cx="5334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2 pairs of lines that interse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4876920" y="50292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NR and OU, MS and 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4" descr=""/>
          <p:cNvPicPr/>
          <p:nvPr/>
        </p:nvPicPr>
        <p:blipFill>
          <a:blip r:embed="rId2"/>
          <a:stretch/>
        </p:blipFill>
        <p:spPr>
          <a:xfrm>
            <a:off x="228600" y="3084480"/>
            <a:ext cx="434340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343040" y="2133720"/>
            <a:ext cx="4343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perimeter and area of the tri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505320" y="54864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= 23 in., A = 20 in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8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9"/>
          <p:cNvSpPr/>
          <p:nvPr/>
        </p:nvSpPr>
        <p:spPr>
          <a:xfrm>
            <a:off x="5181480" y="3276720"/>
            <a:ext cx="1524240" cy="20574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in.           10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and perimeter for the trapezoi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581280" y="5410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= 28mm, A= 36 m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2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3"/>
          <p:cNvSpPr/>
          <p:nvPr/>
        </p:nvSpPr>
        <p:spPr>
          <a:xfrm rot="10800000">
            <a:off x="4114440" y="3276720"/>
            <a:ext cx="3809880" cy="12189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mm         4 mm                     5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18148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57600" y="190512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perimeter and area of the parallelogr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733920" y="54100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 = 29 cm, A = 27 cm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6"/>
          <p:cNvSpPr/>
          <p:nvPr/>
        </p:nvSpPr>
        <p:spPr>
          <a:xfrm>
            <a:off x="4495680" y="3352680"/>
            <a:ext cx="3581640" cy="1295640"/>
          </a:xfrm>
          <a:prstGeom prst="parallelogram">
            <a:avLst>
              <a:gd name="adj" fmla="val 6910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5 cm        3 cm                      5.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5410080" y="3352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19360" y="2057400"/>
            <a:ext cx="4724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ree farm needs fertilizing. Each box of fertilizer covers 36 square feet. About how many boxes of fertilizer are need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962520" y="54100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bout 14 (13.5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3581640" cy="29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430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urface Area of the cub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54 in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609480" y="2666880"/>
            <a:ext cx="3048120" cy="281952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1640" y="23619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volum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364 ft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228600" y="2819520"/>
            <a:ext cx="3657600" cy="2209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urface Area of the Triangular Pr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56 m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311796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0:34:09Z</dcterms:created>
  <dc:creator>JWEETTA110</dc:creator>
  <dc:description>© 1999-2004 SchoolKiT International
This template is a component of EDclass. You may only use this template if you have a current subscription to EDclass. For more information
visit: www.schoolkit.com
email: service@schoolkit.com</dc:description>
  <dc:language>en-US</dc:language>
  <cp:lastModifiedBy>kim.nelson Nelson</cp:lastModifiedBy>
  <dcterms:modified xsi:type="dcterms:W3CDTF">2012-01-12T01:27:18Z</dcterms:modified>
  <cp:revision>27</cp:revision>
  <dc:subject>SchoolKiT International</dc:subject>
  <dc:title>Chapter 2 Review Game Show</dc:title>
</cp:coreProperties>
</file>